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7997-421B-4EF2-B70D-153E8C1500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1125-D862-4493-B791-F0BF91184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DC73-5682-4AE7-B3BA-C11AE6A470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3999-F1EF-49B4-BE51-39E9626D33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7113-0AEB-4862-A012-B67B449FE1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DBDD-A004-459E-AB2E-0FCA566F5C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E9E5-979A-407B-9974-7643827926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0605-98C2-459B-866A-EA6F71B9CD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EF80-8B1A-47E4-8204-ACADA72329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2EFD-C333-4157-9220-90FBEFD5BE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41B7-9805-4E0E-8B70-B8AB0A503A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211B-A8FB-4910-B409-1E25A5E39F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DFFD-107F-40E3-A5CA-F7A61B19B2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3A3D-E614-4F6D-88DA-C324D001BA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F16B-37C6-4D5D-85D5-9FF608B4F2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E68A-F3A7-477E-A4D5-C48A4AFE23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438A-3234-4728-A574-31EBD33ECE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9A86-CD68-4A49-88EA-113BB086B2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A9E3-76CB-4F77-A55E-5E570987D7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315D-2A41-4E5D-8A28-B07FDED8C5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3FDA-A690-4AAF-A255-542BD8DE32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Français 2/3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</a:rPr>
              <a:t>Le profil personn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371600" y="152388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 14 ans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371600" y="144792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 les yeux marron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371600" y="14479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_ gentil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371600" y="14479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_ sportif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371600" y="152388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_ les yeux bleus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3886200" y="149544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295280" y="2041560"/>
            <a:ext cx="7620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_ sympa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3581280" y="205740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ff"/>
                </a:solidFill>
                <a:latin typeface="Times New Roman"/>
              </a:rPr>
              <a:t>es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371600" y="1447920"/>
            <a:ext cx="7620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_ grand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3886200" y="144936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ff"/>
                </a:solidFill>
                <a:latin typeface="Times New Roman"/>
              </a:rPr>
              <a:t>es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371600" y="144792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Qui ___ les cheveux noir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4952880" y="134316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371600" y="152388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 14 ans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4038480" y="144936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Contexte: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Vous parlez avec des élèves français qui visitent Joel Barlow pour une semain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Vous êtes à une petite fête pour célébrer leur arrivé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Les élèves français vous posent des questions au sujet de vos camarades de class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371600" y="144792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 les yeux marron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3886200" y="144936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371600" y="14479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_ gentil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3886200" y="144936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ff"/>
                </a:solidFill>
                <a:latin typeface="Times New Roman"/>
              </a:rPr>
              <a:t>es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371600" y="14479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_ sportif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3657600" y="141912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ff"/>
                </a:solidFill>
                <a:latin typeface="Times New Roman"/>
              </a:rPr>
              <a:t>es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Tâche: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Répondre aux questions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Utiliser le verbe approprié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ÊTRE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ou </a:t>
            </a:r>
            <a:r>
              <a:rPr b="1" lang="fr-FR" sz="3200" spc="-1" strike="noStrike" u="sng">
                <a:solidFill>
                  <a:srgbClr val="525a28"/>
                </a:solidFill>
                <a:uFillTx/>
                <a:latin typeface="Times New Roman"/>
              </a:rPr>
              <a:t>AVOIR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Modèl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1447920" y="152388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Qui __les cheveux long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752480" y="3352680"/>
            <a:ext cx="678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 u="sng">
                <a:solidFill>
                  <a:srgbClr val="0000ff"/>
                </a:solidFill>
                <a:uFillTx/>
                <a:latin typeface="Times New Roman"/>
              </a:rPr>
              <a:t>Amélia</a:t>
            </a:r>
            <a:r>
              <a:rPr b="0" i="1" lang="fr-FR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</a:rPr>
              <a:t>a les cheveux long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2844720" y="144936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Modèl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371600" y="15238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Qui __ intellige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1676520" y="312408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 u="sng">
                <a:solidFill>
                  <a:srgbClr val="0000ff"/>
                </a:solidFill>
                <a:uFillTx/>
                <a:latin typeface="Times New Roman"/>
              </a:rPr>
              <a:t>Alejandro</a:t>
            </a:r>
            <a:r>
              <a:rPr b="0" i="1" lang="fr-FR" sz="4800" spc="-1" strike="noStrike">
                <a:solidFill>
                  <a:srgbClr val="000000"/>
                </a:solidFill>
                <a:latin typeface="Times New Roman"/>
              </a:rPr>
              <a:t> est intelligen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200400" y="165096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ff"/>
                </a:solidFill>
                <a:latin typeface="Times New Roman"/>
              </a:rPr>
              <a:t>e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371600" y="152388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_ les yeux bleus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295280" y="2041560"/>
            <a:ext cx="7620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_ sympa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371600" y="1447920"/>
            <a:ext cx="7620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ui ___ grand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371600" y="144792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Qui ___ les cheveux noir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4-10-09T00:48:21Z</dcterms:modified>
  <cp:revision>76</cp:revision>
  <dc:subject/>
  <dc:title>Allez, viens! – Level 2</dc:title>
</cp:coreProperties>
</file>